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CE9-04A4-40FF-944E-44B4306A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31D-ADB9-445A-9C64-87379ECD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D37-E3FC-4543-B7F5-75EFED31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ABC-FF05-44DF-8C8D-12F4B2EF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6D052-98E8-4CFD-872B-07E67DAC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FD769-2EDD-49B5-AEBC-C7ABFD7F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13C5D-61E1-4265-830E-CC25F694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3F8B-C56E-46D6-AF5E-A4DA0EA0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D0D91-DB5E-483D-87F1-EF3E7DC1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6094F-3E02-422F-B0FF-1027A9EC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2886-C2F9-4344-A6FB-865313E8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3F1-5D17-4EDB-9C40-974E5EA6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314F1-EC1E-4F3F-A93B-31C51055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7F986-D908-4B2D-9B7D-EB8D509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3C9FE-1E7C-4B00-934D-4E6D4EBF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8AB2E-A2AF-4ACF-B427-7518E95A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34B75-3A30-466A-81EF-DB41728D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FFFF-A8D3-4908-8BF5-5BEA574F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3D1A-5CA4-4AF7-8715-7A56D825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2C3F-71DF-4791-8D4E-AD655A56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FDC1-7645-4562-BAFC-2EF7225F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1307-8636-4CED-8540-4A491A0C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FCC-FC03-4727-A1E0-4D2A6541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9904-DF6D-4B91-972A-2F4424A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4408-17E8-4184-A34C-758BE7E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600F-0993-432E-80B9-C1B93D7B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6D7F8-86F7-4EAF-9D52-FC728757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DB22-6748-4C4E-8B71-31B8DAF6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B334-D0DD-4565-AC9C-D9695612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AAD6-1AAF-492C-9B17-0526F5C1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ECF5C7-8791-49F3-8122-E5B2A91F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21651-ED4A-424B-BECD-B5C57A69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164CD-2E2B-4B01-9FD1-28777E87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72F-71BC-46AE-AA2D-9C665A93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4AA47-06E6-410F-A0E9-413063F7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5CB31-FFCE-4572-918B-47A107B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5CEAC-6A0A-4D58-B4CF-59651D2F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612DB-38D5-48CF-8CBA-61778C67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CCE9F-3407-40AC-A59A-AF50F84D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61448-075F-4722-AD3B-F1B57C65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3444F-1E25-4BB7-952B-BCCEAE05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1FB01-00FB-4D9E-88DD-123AF6A5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19E9D0-6BFD-417C-A49B-AE2A8AC4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456-4F8A-4311-86EA-C453F7A4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7F1-4634-434F-B62E-33B67420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DA8-6C44-4BB4-8270-8FCA52EB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A14-1C30-448F-92F6-5E83CCBF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1F6-E195-44F0-ABF6-99AFE77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1408-6855-4F45-BB63-B9A869FC7CA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D8AF-708F-492B-88C4-83AC436F63B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D3D-BCDB-470A-925C-388F786A0D9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35C2-DAFB-4013-BB40-6126A51C66C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414360" y="-133200"/>
            <a:ext cx="8315280" cy="24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1\Desktop\Сухомлинский 3.jpg"/>
          <p:cNvPicPr/>
          <p:nvPr/>
        </p:nvPicPr>
        <p:blipFill>
          <a:blip r:embed="rId2"/>
          <a:stretch/>
        </p:blipFill>
        <p:spPr>
          <a:xfrm>
            <a:off x="380880" y="2438280"/>
            <a:ext cx="3733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Женя умерла 28 декабря, в 12 часов 30 минут утра 1941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Бабушка умерла 25 января, в 3 часа дня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Лека умер 17 марта, в 6 часов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Дядя Вася умер 13 апреля, в 2 часа ночи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– 13 мая, в 7 часов 30 минут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Савичевы умерли. Умерли вс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Таня»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Содержимое 5" descr="0_3e22_41fdc774_XL.jpeg"/>
          <p:cNvPicPr/>
          <p:nvPr/>
        </p:nvPicPr>
        <p:blipFill>
          <a:blip r:embed="rId1"/>
          <a:stretch/>
        </p:blipFill>
        <p:spPr>
          <a:xfrm>
            <a:off x="685800" y="380880"/>
            <a:ext cx="579132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leningrad"/>
          <p:cNvPicPr/>
          <p:nvPr/>
        </p:nvPicPr>
        <p:blipFill>
          <a:blip r:embed="rId1"/>
          <a:stretch/>
        </p:blipFill>
        <p:spPr>
          <a:xfrm>
            <a:off x="0" y="0"/>
            <a:ext cx="3502080" cy="487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9895417b14c"/>
          <p:cNvPicPr/>
          <p:nvPr/>
        </p:nvPicPr>
        <p:blipFill>
          <a:blip r:embed="rId2"/>
          <a:stretch/>
        </p:blipFill>
        <p:spPr>
          <a:xfrm>
            <a:off x="2819520" y="3195720"/>
            <a:ext cx="5562360" cy="366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73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пуговица от маминой кофты. А в печи две булки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теплого хлеба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разрывали немецкие овчарки, а он кричал: «Сына уведите, сына уведите, чтоб не смотрел…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не сразу умерла. Она долго лежала на траве, открыла глаза: «Ира мне надо тебе рассказать…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, я не хочу… - мне казалось, что если она мне скажет то, что хочет, она умрет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не прячьте мою маму в  ямку она проснется, и мы с ней пойдем домой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вытолкнули на улицу, и я бежала за ним по снегу босиком и кричала: «Папочка, папочка». А бабушка причитала дома: «Где же бог, куда он прячется?». Бабушка не смогла пережить такое горе, плакала все тише и тише и через две недели умерла на печке, а рядом спала я и обнимала ее, мертвую. В доме больше никого не осталось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          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С.Алексиевич «Последние свидетели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21760" cy="97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\Desktop\4d733978f33d8494ce5a55a0481.jpg"/>
          <p:cNvPicPr/>
          <p:nvPr/>
        </p:nvPicPr>
        <p:blipFill>
          <a:blip r:embed="rId2"/>
          <a:stretch/>
        </p:blipFill>
        <p:spPr>
          <a:xfrm>
            <a:off x="380880" y="1752480"/>
            <a:ext cx="4114800" cy="3622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\Desktop\помощь.jpg"/>
          <p:cNvPicPr/>
          <p:nvPr/>
        </p:nvPicPr>
        <p:blipFill>
          <a:blip r:embed="rId3"/>
          <a:stretch/>
        </p:blipFill>
        <p:spPr>
          <a:xfrm>
            <a:off x="4648320" y="1752480"/>
            <a:ext cx="4267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075"/>
          <p:cNvPicPr/>
          <p:nvPr/>
        </p:nvPicPr>
        <p:blipFill>
          <a:blip r:embed="rId1"/>
          <a:stretch/>
        </p:blipFill>
        <p:spPr>
          <a:xfrm>
            <a:off x="4495680" y="380880"/>
            <a:ext cx="4343400" cy="315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V_Leningrade"/>
          <p:cNvPicPr/>
          <p:nvPr/>
        </p:nvPicPr>
        <p:blipFill>
          <a:blip r:embed="rId2"/>
          <a:stretch/>
        </p:blipFill>
        <p:spPr>
          <a:xfrm>
            <a:off x="304920" y="3657600"/>
            <a:ext cx="4190760" cy="2962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 тех, что родился в 1923- 1924 гг.и в 1941 году со школьной скамьи шагнул на фронт к концу войны в живых осталось только 3 %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о время Второй мировой войны всего в мире погибло 13 миллионов дет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гибали дети – Граждане мир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1\Desktop\победа.jpg"/>
          <p:cNvPicPr/>
          <p:nvPr/>
        </p:nvPicPr>
        <p:blipFill>
          <a:blip r:embed="rId1"/>
          <a:stretch/>
        </p:blipFill>
        <p:spPr>
          <a:xfrm>
            <a:off x="430200" y="1055520"/>
            <a:ext cx="3429000" cy="28958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120492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8c891"/>
                </a:solidFill>
                <a:latin typeface="Arial"/>
              </a:rPr>
              <a:t>Но помнят они и побед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C:\Users\1\Desktop\победа 2.jpg"/>
          <p:cNvPicPr/>
          <p:nvPr/>
        </p:nvPicPr>
        <p:blipFill>
          <a:blip r:embed="rId2"/>
          <a:stretch/>
        </p:blipFill>
        <p:spPr>
          <a:xfrm>
            <a:off x="5281560" y="1055520"/>
            <a:ext cx="3328920" cy="289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1\Desktop\День победы.jpg"/>
          <p:cNvPicPr/>
          <p:nvPr/>
        </p:nvPicPr>
        <p:blipFill>
          <a:blip r:embed="rId3"/>
          <a:stretch/>
        </p:blipFill>
        <p:spPr>
          <a:xfrm>
            <a:off x="2438280" y="4114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Пусть дети повсюду встречают рассвет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Улыбкой ясной спокойно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Давайте же скажем все вместе –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, нет,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 – грабительским войнам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яркое сол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инее небо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вет в око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колосья хлеба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Мы нарисуем осенние листья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Школу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Руче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Друзей беспокойных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И зачеркнем нашей общей кистью выстрелы, взрывы, огонь и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«</a:t>
            </a: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Ты рожден человеком, но Человеком надо стать. Настоящий человек-это дух человеческий, который выражается в убеждениях и чувствах, воле и стремлениях, в отношении к людям и к самому себе, в способности любить и ненавидеть, видеть в мечте идеал и бороться за него». В.А.Сухомлински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920" y="3581280"/>
            <a:ext cx="4648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началась, мы были еще дети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чилась война, мы уже взрослые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.Коротаева, 14 л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Picture 5" descr="nevinn_10"/>
          <p:cNvPicPr/>
          <p:nvPr/>
        </p:nvPicPr>
        <p:blipFill>
          <a:blip r:embed="rId1"/>
          <a:stretch/>
        </p:blipFill>
        <p:spPr>
          <a:xfrm>
            <a:off x="4800600" y="3332160"/>
            <a:ext cx="3505320" cy="2889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Users\1\Desktop\сухомлинский 2.jpg"/>
          <p:cNvPicPr/>
          <p:nvPr/>
        </p:nvPicPr>
        <p:blipFill>
          <a:blip r:embed="rId2"/>
          <a:stretch/>
        </p:blipFill>
        <p:spPr>
          <a:xfrm>
            <a:off x="55440" y="125280"/>
            <a:ext cx="3907080" cy="2998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4419720" y="8398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На любви к детям держится м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94840" cy="8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54"/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7760" y="304560"/>
            <a:ext cx="5638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Такою все дышало тишин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Что вся земля еще спала, казалос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Кто знал, что между миром и войно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Всего каких-то пять минут осталось.</a:t>
            </a: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С.Щипаче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7" descr="80350cbddde9"/>
          <p:cNvPicPr/>
          <p:nvPr/>
        </p:nvPicPr>
        <p:blipFill>
          <a:blip r:embed="rId1"/>
          <a:srcRect l="6278" t="5145" r="0" b="5524"/>
          <a:stretch/>
        </p:blipFill>
        <p:spPr>
          <a:xfrm>
            <a:off x="685800" y="2286000"/>
            <a:ext cx="518148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1\Desktop\Война.jpg"/>
          <p:cNvPicPr/>
          <p:nvPr/>
        </p:nvPicPr>
        <p:blipFill>
          <a:blip r:embed="rId2"/>
          <a:stretch/>
        </p:blipFill>
        <p:spPr>
          <a:xfrm>
            <a:off x="838080" y="1870200"/>
            <a:ext cx="7620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есть на свете дороже дете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Что есть  самое дорогое  у любого народа? У любой матер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ебенок, прошедший через ужас войны, ребенок л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Кто возвратит ему детств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кто подсчитает, сколько детей убивает войн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таких были тысячи. Что помнят они? Что могут рассказать? Что могли понять, увидеть, запомнить де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1760" cy="962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1\Desktop\дети 323.jpg"/>
          <p:cNvPicPr/>
          <p:nvPr/>
        </p:nvPicPr>
        <p:blipFill>
          <a:blip r:embed="rId2"/>
          <a:stretch/>
        </p:blipFill>
        <p:spPr>
          <a:xfrm>
            <a:off x="15228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1\Desktop\дети война.jpg"/>
          <p:cNvPicPr/>
          <p:nvPr/>
        </p:nvPicPr>
        <p:blipFill>
          <a:blip r:embed="rId3"/>
          <a:stretch/>
        </p:blipFill>
        <p:spPr>
          <a:xfrm>
            <a:off x="5943600" y="1077840"/>
            <a:ext cx="3048120" cy="265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1\Desktop\31108.jpg"/>
          <p:cNvPicPr/>
          <p:nvPr/>
        </p:nvPicPr>
        <p:blipFill>
          <a:blip r:embed="rId4"/>
          <a:stretch/>
        </p:blipFill>
        <p:spPr>
          <a:xfrm>
            <a:off x="3657600" y="1143000"/>
            <a:ext cx="192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1\Desktop\i_181.jpg"/>
          <p:cNvPicPr/>
          <p:nvPr/>
        </p:nvPicPr>
        <p:blipFill>
          <a:blip r:embed="rId5"/>
          <a:stretch/>
        </p:blipFill>
        <p:spPr>
          <a:xfrm>
            <a:off x="331920" y="4064040"/>
            <a:ext cx="3630600" cy="239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Users\1\Desktop\4275994_orig.jpg"/>
          <p:cNvPicPr/>
          <p:nvPr/>
        </p:nvPicPr>
        <p:blipFill>
          <a:blip r:embed="rId6"/>
          <a:stretch/>
        </p:blipFill>
        <p:spPr>
          <a:xfrm>
            <a:off x="5105520" y="4064040"/>
            <a:ext cx="3611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1\Desktop\img28.jpg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fot837"/>
          <p:cNvPicPr/>
          <p:nvPr/>
        </p:nvPicPr>
        <p:blipFill>
          <a:blip r:embed="rId1"/>
          <a:stretch/>
        </p:blipFill>
        <p:spPr>
          <a:xfrm>
            <a:off x="504720" y="2567160"/>
            <a:ext cx="3381480" cy="335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684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 блокадном Ленинграде оставалось 2 млн. 544 тысяч жителей, в том числе 400 тысяч дет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3886200" y="251460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Ленинградские дети», - когда звучали эти слова, у человека сжималось серд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о звучало как пароль – «ленинградские дети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Komp</cp:lastModifiedBy>
  <dcterms:modified xsi:type="dcterms:W3CDTF">2018-09-10T08:48:37Z</dcterms:modified>
  <cp:revision>24</cp:revision>
  <dc:subject/>
  <dc:title>МЕТОДИЧЕСКАЯ РАЗРАБОТКА ВНЕКЛАССНОГО МЕРОПРИЯТИЯ   «Детство, опаленное войной»</dc:title>
</cp:coreProperties>
</file>